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8CB-B5D4-46E4-AD17-7516981E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059-0586-4672-8941-4354F4F8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DEA-1F71-482B-8262-0C7CFBB2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5BE-585A-475A-8AB8-0D98CD95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4B74-871F-43D8-B475-BD4E1F90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919-17FB-47D9-BCAC-266A1811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171-DFB3-4B7F-B0F3-7E470C39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3F5-E283-494B-8F48-FBCAE576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D2C-F4FF-436F-BC50-05BDDE89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A6E-DA12-4366-9850-B4A0D9DF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D786-C400-44E5-B4D7-5D8FAA88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9748-82D2-4263-8CF3-DEEFD37A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0774-C8AA-4D9E-B255-8A2731962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rricanes 25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verall – Most knew who you were…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ll done.  All major points addressed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…a bit too much dependency on the powerpoint…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reative website work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te effective -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27:42Z</dcterms:created>
  <dc:creator>nbdoe</dc:creator>
  <dc:description/>
  <dc:language>en-US</dc:language>
  <cp:lastModifiedBy>nbdoe</cp:lastModifiedBy>
  <dcterms:modified xsi:type="dcterms:W3CDTF">2007-05-09T17:32:48Z</dcterms:modified>
  <cp:revision>1</cp:revision>
  <dc:subject/>
  <dc:title>Election 2007</dc:title>
</cp:coreProperties>
</file>